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928-614C-4C17-A2CB-468CF5E2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F29-E284-4B53-95F9-6C492BBF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C62-A187-48FA-B50B-547EED53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567-3C8B-453F-98B6-4E5B22AC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ECDE-3BF0-4D2F-A1B5-2E448D88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BE53-8808-4B14-A5E9-681D5081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B3A7-D233-48AE-80A5-239D3793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B5A6-26F7-45A0-9E0A-D368B97B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EA74-0E62-4EDD-B31E-458CFC8E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3242-3401-4120-B0A7-C4A2FBEE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94A8-602A-46A1-9B66-F16D5736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354-2D00-4892-AE5F-033CE86C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FB3C-E22D-434D-973A-7F28675B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FD42-3D6F-4F76-9A9E-0A05CEB2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45D7-7B2E-4F6B-B51E-C2E1C682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8893-FAA7-4516-A86A-5BCFB3F0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766A-8C76-4143-B08E-EFFD61D2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3CB-4BD3-4B66-9043-ECF1592C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5DA-66E4-49C3-9EC9-A90D6827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DD9-93E9-4914-B114-F55CBF9B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0E0-8B05-46A8-A776-6289341E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0F1-AD82-4CA0-88A8-6B84E55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F38-BB10-4BB0-A013-85425613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0B7-591E-4408-A0CD-4FDC376C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EE00-10B2-4052-B932-81C3F56A7E5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4EE2-3369-4522-BD80-84378C2CF3C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ibiscom.com/hn02l.htm" TargetMode="External"/><Relationship Id="rId3" Type="http://schemas.openxmlformats.org/officeDocument/2006/relationships/hyperlink" Target="http://www.ibiscom.com/hn02l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00200" y="1684440"/>
            <a:ext cx="4143240" cy="3485880"/>
            <a:chOff x="2500200" y="1684440"/>
            <a:chExt cx="4143240" cy="3485880"/>
          </a:xfrm>
        </p:grpSpPr>
        <p:grpSp>
          <p:nvGrpSpPr>
            <p:cNvPr id="89" name=""/>
            <p:cNvGrpSpPr/>
            <p:nvPr/>
          </p:nvGrpSpPr>
          <p:grpSpPr>
            <a:xfrm>
              <a:off x="2504880" y="1688760"/>
              <a:ext cx="4133880" cy="3476160"/>
              <a:chOff x="2504880" y="1688760"/>
              <a:chExt cx="4133880" cy="3476160"/>
            </a:xfrm>
          </p:grpSpPr>
          <p:sp>
            <p:nvSpPr>
              <p:cNvPr id="90" name=""/>
              <p:cNvSpPr/>
              <p:nvPr/>
            </p:nvSpPr>
            <p:spPr>
              <a:xfrm>
                <a:off x="2504880" y="1688760"/>
                <a:ext cx="4133880" cy="347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504880" y="1688760"/>
                <a:ext cx="4133880" cy="3476160"/>
                <a:chOff x="2504880" y="1688760"/>
                <a:chExt cx="4133880" cy="3476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504880" y="1688760"/>
                  <a:ext cx="4133880" cy="3476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ffffcc"/>
                      </a:solidFill>
                      <a:latin typeface=" verdana"/>
                    </a:rPr>
                    <a:t>  </a:t>
                  </a:r>
                  <a:r>
                    <a:rPr b="0" lang="en-US" sz="21600" spc="-1" strike="noStrike">
                      <a:solidFill>
                        <a:srgbClr val="ffffcc"/>
                      </a:solidFill>
                      <a:latin typeface=" verdana"/>
                    </a:rPr>
                    <a:t> </a:t>
                  </a:r>
                  <a:r>
                    <a:rPr b="0" lang="en-US" sz="600" spc="-1" strike="noStrike">
                      <a:solidFill>
                        <a:srgbClr val="ffffcc"/>
                      </a:solidFill>
                      <a:latin typeface=" 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504880" y="1688760"/>
                  <a:ext cx="4133880" cy="34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2500200" y="1684440"/>
              <a:ext cx="4143240" cy="3485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537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Rochdale in 1780"/>
          <p:cNvPicPr/>
          <p:nvPr/>
        </p:nvPicPr>
        <p:blipFill>
          <a:blip r:embed="rId2"/>
          <a:stretch/>
        </p:blipFill>
        <p:spPr>
          <a:xfrm>
            <a:off x="2057400" y="0"/>
            <a:ext cx="5410080" cy="335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1788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Rochdale in 1890"/>
          <p:cNvPicPr/>
          <p:nvPr/>
        </p:nvPicPr>
        <p:blipFill>
          <a:blip r:embed="rId3"/>
          <a:stretch/>
        </p:blipFill>
        <p:spPr>
          <a:xfrm>
            <a:off x="2133720" y="3603600"/>
            <a:ext cx="5333760" cy="325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11788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1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22480" y="2209680"/>
            <a:ext cx="3754440" cy="2417760"/>
            <a:chOff x="1122480" y="2209680"/>
            <a:chExt cx="3754440" cy="2417760"/>
          </a:xfrm>
        </p:grpSpPr>
        <p:grpSp>
          <p:nvGrpSpPr>
            <p:cNvPr id="98" name=""/>
            <p:cNvGrpSpPr/>
            <p:nvPr/>
          </p:nvGrpSpPr>
          <p:grpSpPr>
            <a:xfrm>
              <a:off x="1125000" y="2214000"/>
              <a:ext cx="3749400" cy="2408400"/>
              <a:chOff x="1125000" y="2214000"/>
              <a:chExt cx="3749400" cy="24084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1125000" y="2214000"/>
                <a:ext cx="3749400" cy="2408400"/>
                <a:chOff x="1125000" y="2214000"/>
                <a:chExt cx="3749400" cy="24084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1127520" y="2218320"/>
                  <a:ext cx="3744360" cy="2399040"/>
                  <a:chOff x="1127520" y="2218320"/>
                  <a:chExt cx="3744360" cy="239904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1164600" y="2218320"/>
                    <a:ext cx="3669840" cy="2399040"/>
                    <a:chOff x="1164600" y="2218320"/>
                    <a:chExt cx="3669840" cy="239904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1164600" y="2218320"/>
                      <a:ext cx="36698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1164600" y="2218320"/>
                      <a:ext cx="3669840" cy="2399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cc66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3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4" name=""/>
                  <p:cNvSpPr/>
                  <p:nvPr/>
                </p:nvSpPr>
                <p:spPr>
                  <a:xfrm>
                    <a:off x="1127520" y="2218320"/>
                    <a:ext cx="3744360" cy="2399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1125000" y="2214000"/>
                  <a:ext cx="3749400" cy="240840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1125000" y="2214000"/>
                <a:ext cx="3749400" cy="240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22480" y="2209680"/>
              <a:ext cx="3754440" cy="2417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8" name="" descr="Young Min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1371600"/>
            <a:ext cx="6480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0" t="0" r="0" b="12382"/>
          <a:stretch/>
        </p:blipFill>
        <p:spPr>
          <a:xfrm>
            <a:off x="1523880" y="1447920"/>
            <a:ext cx="6202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5856120" cy="356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200400" y="3429000"/>
            <a:ext cx="5410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4647960" cy="311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4267080" cy="340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1272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655344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114800" y="2286000"/>
            <a:ext cx="4816440" cy="361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39625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64800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70488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19:36Z</dcterms:created>
  <dc:creator>jbmugavero</dc:creator>
  <dc:description/>
  <dc:language>en-US</dc:language>
  <cp:lastModifiedBy>Susan Vanderpool</cp:lastModifiedBy>
  <dcterms:modified xsi:type="dcterms:W3CDTF">2007-01-04T04:13:30Z</dcterms:modified>
  <cp:revision>2</cp:revision>
  <dc:subject/>
  <dc:title>Thursday Tidings</dc:title>
</cp:coreProperties>
</file>